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62C-DB9F-43CF-9391-B8D112E6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58A-6A20-47DC-8841-A7B8E97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68C-DC26-44CE-8912-AD2F04D1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008-8188-4975-8865-1519C003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171E-187B-4445-A740-E90072A9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8BBE-6244-4E5E-B663-91323061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9A94-23FF-4EEB-A313-26477099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DBFE-0235-4C6A-9B50-BBD7A269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6B27-9418-4D41-8CE9-45D2DF9F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2349-D8A1-4F31-B9EB-07C30BE0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488A-1419-4871-9D55-DB88C0C6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656-836B-4C67-9E47-F92B948E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D099-BABF-4BC8-A4C8-AE41035D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048D-3332-4320-AEA9-FD453AF6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5F84-59A4-44F4-8899-45B53998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5C52-CA9D-419B-A79F-142B139D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1CE1-713A-4773-BFDA-EBFAE1F7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94D-FB15-48F7-98DD-B829FE17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158-C0FB-4986-B108-AC9A5257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525-F7CB-4377-BADD-93C0A4F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683-CA7D-4204-A668-B78C7F10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60D-F159-43B2-8A64-3A87D2B0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B48-B0EA-4175-9DF9-3D65AB5F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8F9-65F0-4507-B256-605C98BC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8C25-AC11-4472-AC23-BA6FF7D218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9790-E7E0-4766-92FE-0E923CFFA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699920"/>
            <a:ext cx="7448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Построения сечений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при наличии данных точек.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Виды сечений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360" y="333360"/>
            <a:ext cx="82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чения шестиугольной призмы плоскостью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619280" y="38606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03640" y="40766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4076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38606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3860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3860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3860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19280" y="5373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203640" y="558936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5373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558972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5373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446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Решение задачи №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8000" y="1844640"/>
            <a:ext cx="38145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олучился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олучился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Q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скомое сечение данной приз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042920" y="386064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27280" y="407664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076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3860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1928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3860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3860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042920" y="537372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27280" y="5589360"/>
            <a:ext cx="792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5373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558972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" y="3914640"/>
            <a:ext cx="53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30440" y="35002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68600" y="3511440"/>
            <a:ext cx="52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38606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14440" y="3987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440" y="3987720"/>
            <a:ext cx="54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0080" y="542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508464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0800" y="506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537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573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3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93960" y="57625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03520" y="51595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79880" y="5626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V="1">
            <a:off x="1907640" y="5152320"/>
            <a:ext cx="732600" cy="654840"/>
          </a:xfrm>
          <a:prstGeom prst="straightConnector1">
            <a:avLst/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155" name=""/>
          <p:cNvCxnSpPr/>
          <p:nvPr/>
        </p:nvCxnSpPr>
        <p:spPr>
          <a:xfrm flipV="1">
            <a:off x="1930320" y="5653800"/>
            <a:ext cx="1286640" cy="143640"/>
          </a:xfrm>
          <a:prstGeom prst="straightConnector1">
            <a:avLst/>
          </a:prstGeom>
          <a:ln w="2232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2627280" y="5151600"/>
            <a:ext cx="600120" cy="50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276640"/>
            <a:ext cx="37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, R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ежащие на ребрах призм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440" y="5759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47721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97080" y="562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49910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Решение задачи №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170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.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лежит в искомой плоскости, т.к.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 условию лежат в этой плоск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Получи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.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же лежит в искомой плоскости (т.к. эта плоскость проходит через пряму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араллельн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DEF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ямо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скомое сечение данной приз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276640"/>
            <a:ext cx="316872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шины призм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114560" y="3933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698920" y="4149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4560" y="4149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4560" y="3933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6560" y="393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0560" y="4365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0560" y="4365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65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45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98920" y="4365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114560" y="544644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698920" y="56624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4560" y="544680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4560" y="56624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6560" y="5446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0560" y="5878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4560" y="4149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4005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0560" y="3573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3573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3933720"/>
            <a:ext cx="50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4365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400536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5518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51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544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82920" y="58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492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0560" y="4365720"/>
            <a:ext cx="0" cy="151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49520" y="4143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9400" y="4359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41600" y="56307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90560" y="4149720"/>
            <a:ext cx="180036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49520" y="58467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701720" y="5667480"/>
            <a:ext cx="1787760" cy="2030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0920" y="4149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90920" y="4149720"/>
            <a:ext cx="0" cy="151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5101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Решение задачи №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19280" y="1844640"/>
            <a:ext cx="421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единим т.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 (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олучим отрезок 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лежит в искомой плоскости, т.к.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 условию лежат в этой плоск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. Построи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араллельн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к. эти отрезки лежат в параллельных плоскостях, которые являются основаниями призм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учи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апец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комое сечение данной приз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116000" y="3573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00360" y="3789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3789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357336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3573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4005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4005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116000" y="508608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700360" y="53006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16360" y="50846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53020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5086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2360" y="5518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5719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92360" y="3213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57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3645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36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50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47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1964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54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54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5346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537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537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5372280"/>
            <a:ext cx="19447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13000" y="53262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87760" y="4005360"/>
            <a:ext cx="57600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331640" y="4005360"/>
            <a:ext cx="36036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2133720"/>
            <a:ext cx="345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ершин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 ребр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92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4005360"/>
            <a:ext cx="1008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4608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Решение задачи №4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1817640"/>
            <a:ext cx="43830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.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лежит в искомой плоскости, т.к. т.А 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 условию лежат в этой плоск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. Соединим т.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.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же лежит в искомой плоскости (т.к. эта плоскость проходит через пряму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араллельн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GEF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раллелограм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скомое сечение данной приз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325520" y="386388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909880" y="407988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25520" y="40798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5880" y="386388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17880" y="38638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1880" y="42958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900000" y="52308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484360" y="5446440"/>
            <a:ext cx="792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523080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544680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92360" y="5230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76360" y="56624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93520" y="407988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476440" y="429588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693880" y="386388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254040" y="409572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687320" y="3868560"/>
            <a:ext cx="431640" cy="13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452240" y="4302000"/>
            <a:ext cx="431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3862440"/>
            <a:ext cx="65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79640" y="35020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37080" y="3862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56000" y="422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41497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6880" y="52293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35200" y="4900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06840" y="494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18040" y="5275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0400" y="55944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01680" y="56037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2060640"/>
            <a:ext cx="3240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зма наклонная,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ершины приз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0" y="5410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0920" y="5394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60840" y="4067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12920" y="40496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32000" y="4079880"/>
            <a:ext cx="2363760" cy="12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00000" y="4079880"/>
            <a:ext cx="43200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276360" y="4079880"/>
            <a:ext cx="43164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00000" y="5446800"/>
            <a:ext cx="23767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1116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Решение задачи №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43280" y="1844640"/>
            <a:ext cx="43214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). Получи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. Соединим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Получи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. Проведе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, чтобы эта прямая была параллель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.к. точки этих прямых лежат в плоскостях, которые  параллельны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). Аналогично проводи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Q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ести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PRST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комое сечение данной приз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89080" y="3573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773440" y="3789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9080" y="3789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9440" y="357336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3573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544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5440" y="4005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8944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73440" y="4005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189080" y="508608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773440" y="530208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89440" y="508644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9080" y="53020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5086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5440" y="5518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6544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908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7520" y="4729320"/>
            <a:ext cx="53640" cy="5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74680" y="4521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51120" y="47401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32320" y="4521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51280" y="42926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63800" y="43038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350028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8720" y="357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6720" y="3213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773440" y="3213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3645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57440" y="3645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92360" y="3645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50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3672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734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90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4944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97000" y="4541760"/>
            <a:ext cx="57636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03240" y="476100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763720" y="4556160"/>
            <a:ext cx="79236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81160" y="4317840"/>
            <a:ext cx="576360" cy="2160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235160" y="4325760"/>
            <a:ext cx="739800" cy="1936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7080" y="4365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16280" y="3989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1780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54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8436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4729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4360" y="2205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, R, T, S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жащие на ребрах приз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00160" y="4325760"/>
            <a:ext cx="1008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56307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</a:rPr>
              <a:t>Решение задачи №6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360" y="1773360"/>
            <a:ext cx="4392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трезок В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лежит в искомой плоскости, т.к.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В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по условию лежат в этой плоскости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). Аналогично с отрезко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Продолжим стороны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BCDEF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не параллельны, то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лучим точку пересече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Через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проводим прямую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Получ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– точка пересече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Получим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Получим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5).Построи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параллельно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т.к. эти отрезки лежат в параллельных гранях призмы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6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Получим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Шестиугольник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FP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скомое сечение данной призмы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19280" y="335736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203640" y="3573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19280" y="3573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419640" y="335772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11280" y="335772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95640" y="378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19564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11280" y="3357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19640" y="3357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0364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619280" y="48704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03640" y="508608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48704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9280" y="508644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11280" y="4870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95640" y="5302080"/>
            <a:ext cx="1008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3284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68360" y="2997360"/>
            <a:ext cx="49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13000" y="3022560"/>
            <a:ext cx="49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24360" y="3357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59280" y="3429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95640" y="3429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5892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2400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2000" y="45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24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1640" y="5288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30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1773360"/>
            <a:ext cx="295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2060640"/>
            <a:ext cx="3816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, 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отивоположные вершины верхнего и нижнего основа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82840" y="3357720"/>
            <a:ext cx="54000" cy="5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5000" y="3343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74760" y="5264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64040" y="52689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9040" y="42688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39280" y="4869000"/>
            <a:ext cx="1871640" cy="504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4360" y="530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97960" y="3355920"/>
            <a:ext cx="1800360" cy="2158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32000" y="40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611000" y="3371760"/>
            <a:ext cx="779400" cy="936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20720" y="4311720"/>
            <a:ext cx="561960" cy="9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83040" y="43434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193560" y="4383000"/>
            <a:ext cx="792360" cy="93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95640" y="422100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3357720"/>
            <a:ext cx="978120" cy="2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95640" y="5303880"/>
            <a:ext cx="1008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94920" y="5300640"/>
            <a:ext cx="2801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4480" y="52736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2520" y="3362400"/>
            <a:ext cx="571680" cy="995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9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9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9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9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5272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Виды сечен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34606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оские фигур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 rot="10800000">
            <a:off x="1186920" y="2997360"/>
            <a:ext cx="1441800" cy="720720"/>
          </a:xfrm>
          <a:custGeom>
            <a:avLst/>
            <a:gdLst>
              <a:gd name="textAreaLeft" fmla="*/ 316800 w 1441800"/>
              <a:gd name="textAreaRight" fmla="*/ 1125000 w 14418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03280" y="3933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3860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7280" y="4581360"/>
            <a:ext cx="1440000" cy="10810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58920" y="5734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4508640"/>
            <a:ext cx="1368360" cy="1152360"/>
          </a:xfrm>
          <a:prstGeom prst="hexagon">
            <a:avLst>
              <a:gd name="adj" fmla="val 29686"/>
              <a:gd name="vf" fmla="val 11547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8000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ести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5640" y="386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48000" y="2924280"/>
            <a:ext cx="172872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04000" y="4437000"/>
            <a:ext cx="1079640" cy="1224000"/>
          </a:xfrm>
          <a:prstGeom prst="parallelogram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156360" y="580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308720" y="3068280"/>
            <a:ext cx="936720" cy="576360"/>
          </a:xfrm>
          <a:prstGeom prst="line">
            <a:avLst/>
          </a:prstGeom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24920" y="3024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70920" y="36050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38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ре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9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9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9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2:52:37Z</dcterms:created>
  <dc:creator>школа</dc:creator>
  <dc:description/>
  <dc:language>en-US</dc:language>
  <cp:lastModifiedBy>user</cp:lastModifiedBy>
  <dcterms:modified xsi:type="dcterms:W3CDTF">2008-04-02T09:01:19Z</dcterms:modified>
  <cp:revision>33</cp:revision>
  <dc:subject/>
  <dc:title>Способы построения призмы при наличии трех данных точек. Виды плоскостей.</dc:title>
</cp:coreProperties>
</file>